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780F-C768-4EC5-975D-7CB2E445DB31}" type="slidenum">
              <a:rPr b="0" lang="uk-UA" sz="1200" spc="-1" strike="noStrike">
                <a:solidFill>
                  <a:srgbClr val="c050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a square from these toothpic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a square from these toothpick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three moves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three moves!!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the pig look the opposite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the pig look the opposite way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get the cherry outside of the old-fashioned g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get the cherry outside of the old-fashioned glas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two moves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two moves!!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get the cherry outside of the fancy g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5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get the cherry outside of the fancy glas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ZERO moves! Just turn your head to the side 120 degre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5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ZERO moves! Just turn your head to the side 120 degrees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sticks to create 4 equilateral triangles of equa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Remove sticks to create 4 equilateral triangles of equal size.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2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s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2 total moves!!!  Now you try number 2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2 total moves!!!  Now you try number 2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the fish swim the opposite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the fish swim the opposite way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50F-2B7A-4988-BDE8-4DE70656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A95-07A0-45AD-A95B-8E0AE8EE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47E-6B06-40D9-A966-55F1EE23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612-E312-4A02-9958-754CA078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1575-C767-4275-A545-6FAE221B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1C42-62DE-4D63-9B7E-38AE0E19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6A2-E366-4614-B300-EB3429C5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F423-C161-43BA-BC02-DA2A46B0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ABBE-FCB8-41C4-BDA5-B4108D36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205-6136-4D2C-AD7D-4566DA40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88FF-46C8-42D9-9E36-5EC5FEF9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E1D-6DBF-44A8-8F06-A93A8438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31A9-6605-4FD1-8D28-C1D2B818D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Example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Line 6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>
            <a:off x="43434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04920" y="1336680"/>
            <a:ext cx="1904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ow many moves to make a square from these toothpick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Line 9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Line 12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Line 15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" name="Line 9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Line 7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4b11"/>
                </a:solidFill>
                <a:latin typeface="Comic Sans MS"/>
              </a:rPr>
              <a:t>Done in three moves!!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Oval 11"/>
          <p:cNvSpPr/>
          <p:nvPr/>
        </p:nvSpPr>
        <p:spPr>
          <a:xfrm>
            <a:off x="5334120" y="3733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Freeform 12"/>
          <p:cNvSpPr/>
          <p:nvPr/>
        </p:nvSpPr>
        <p:spPr>
          <a:xfrm>
            <a:off x="5433840" y="4170240"/>
            <a:ext cx="357480" cy="149400"/>
          </a:xfrm>
          <a:custGeom>
            <a:avLst/>
            <a:gdLst/>
            <a:ahLst/>
            <a:rect l="l" t="t" r="r" b="b"/>
            <a:pathLst>
              <a:path w="225" h="94">
                <a:moveTo>
                  <a:pt x="225" y="76"/>
                </a:moveTo>
                <a:cubicBezTo>
                  <a:pt x="177" y="88"/>
                  <a:pt x="168" y="94"/>
                  <a:pt x="102" y="76"/>
                </a:cubicBezTo>
                <a:cubicBezTo>
                  <a:pt x="64" y="66"/>
                  <a:pt x="53" y="34"/>
                  <a:pt x="18" y="23"/>
                </a:cubicBezTo>
                <a:cubicBezTo>
                  <a:pt x="0" y="5"/>
                  <a:pt x="2" y="15"/>
                  <a:pt x="2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3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Line 7"/>
          <p:cNvSpPr/>
          <p:nvPr/>
        </p:nvSpPr>
        <p:spPr>
          <a:xfrm flipV="1">
            <a:off x="6248520" y="22093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4" name="Line 9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67652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8" name="Line 15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" name="Line 16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85800" y="1447920"/>
            <a:ext cx="146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moves to make the pig look the opposite way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343400" y="41911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 flipV="1">
            <a:off x="6248520" y="22093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Line 11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9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9" name="Line 15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3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6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7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8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1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2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4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6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9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1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2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3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5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8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0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2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5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6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7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3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4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8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9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1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4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6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7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8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0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1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2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3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4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6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7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0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1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3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5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6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2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4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7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8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9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3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7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0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1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2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4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5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6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8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9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0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3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4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5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6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8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9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3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5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6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7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8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2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3" name="Oval 15"/>
          <p:cNvSpPr/>
          <p:nvPr/>
        </p:nvSpPr>
        <p:spPr>
          <a:xfrm>
            <a:off x="6400800" y="34290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4" name="Freeform 16"/>
          <p:cNvSpPr/>
          <p:nvPr/>
        </p:nvSpPr>
        <p:spPr>
          <a:xfrm>
            <a:off x="6400800" y="3886200"/>
            <a:ext cx="357120" cy="96840"/>
          </a:xfrm>
          <a:custGeom>
            <a:avLst/>
            <a:gdLst/>
            <a:ahLst/>
            <a:rect l="l" t="t" r="r" b="b"/>
            <a:pathLst>
              <a:path w="225" h="94">
                <a:moveTo>
                  <a:pt x="225" y="76"/>
                </a:moveTo>
                <a:cubicBezTo>
                  <a:pt x="177" y="88"/>
                  <a:pt x="168" y="94"/>
                  <a:pt x="102" y="76"/>
                </a:cubicBezTo>
                <a:cubicBezTo>
                  <a:pt x="64" y="66"/>
                  <a:pt x="53" y="34"/>
                  <a:pt x="18" y="23"/>
                </a:cubicBezTo>
                <a:cubicBezTo>
                  <a:pt x="0" y="5"/>
                  <a:pt x="2" y="15"/>
                  <a:pt x="2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7"/>
          <p:cNvSpPr/>
          <p:nvPr/>
        </p:nvSpPr>
        <p:spPr>
          <a:xfrm>
            <a:off x="1676520" y="4572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7" name="Line 14"/>
          <p:cNvSpPr/>
          <p:nvPr/>
        </p:nvSpPr>
        <p:spPr>
          <a:xfrm>
            <a:off x="388620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533520" y="1447920"/>
            <a:ext cx="1616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How many moves to get the cherry outside of the old-fashioned glas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9" name="Line 16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0" name="Line 17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81" name="Picture 1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3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4" name="Line 4"/>
          <p:cNvSpPr/>
          <p:nvPr/>
        </p:nvSpPr>
        <p:spPr>
          <a:xfrm>
            <a:off x="3886200" y="2438280"/>
            <a:ext cx="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5" name="Line 6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87" name="Picture 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9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2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93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5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6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7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8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99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1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3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4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05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7" name="Line 3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8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0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11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Done in two moves!!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5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6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17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167652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blem Number 5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9" name="Line 3"/>
          <p:cNvSpPr/>
          <p:nvPr/>
        </p:nvSpPr>
        <p:spPr>
          <a:xfrm flipV="1">
            <a:off x="5029200" y="2819160"/>
            <a:ext cx="11430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0" name="Line 4"/>
          <p:cNvSpPr/>
          <p:nvPr/>
        </p:nvSpPr>
        <p:spPr>
          <a:xfrm>
            <a:off x="3886200" y="2895480"/>
            <a:ext cx="10666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533520" y="1447920"/>
            <a:ext cx="161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moves to get the cherry outside of the fancy glas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2" name="Line 7"/>
          <p:cNvSpPr/>
          <p:nvPr/>
        </p:nvSpPr>
        <p:spPr>
          <a:xfrm>
            <a:off x="4952880" y="3581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3" name="Picture 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664160" y="2666880"/>
            <a:ext cx="59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676520" y="457200"/>
            <a:ext cx="64008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blem Number 5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one in ZERO moves! Just turn your head to the side 120 degrees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5" name="Line 3"/>
          <p:cNvSpPr/>
          <p:nvPr/>
        </p:nvSpPr>
        <p:spPr>
          <a:xfrm flipV="1">
            <a:off x="5029200" y="2819160"/>
            <a:ext cx="11430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3886200" y="2895480"/>
            <a:ext cx="10666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4952880" y="3581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8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664160" y="2666880"/>
            <a:ext cx="59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0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1" name="Line 4"/>
          <p:cNvSpPr/>
          <p:nvPr/>
        </p:nvSpPr>
        <p:spPr>
          <a:xfrm>
            <a:off x="40384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28600" y="2057400"/>
            <a:ext cx="192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Remove sticks to create 4 equilateral triangles of equal siz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4" name="Line 9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6" name="Line 11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7" name="Line 12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8" name="Line 13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9" name="Line 14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0" name="Line 15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1" name="Line 16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2" name="Line 17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3" name="Line 18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4" name="Line 19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5" name="Line 20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6" name="Line 21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8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9" name="Line 4"/>
          <p:cNvSpPr/>
          <p:nvPr/>
        </p:nvSpPr>
        <p:spPr>
          <a:xfrm>
            <a:off x="4038480" y="3048120"/>
            <a:ext cx="60984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1" name="Line 7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2" name="Line 8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3" name="Line 9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4" name="Line 10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5" name="Line 11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6" name="Line 12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7" name="Line 13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8" name="Line 14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9" name="Line 15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0" name="Line 16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1" name="Line 17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2" name="Line 18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3" name="Text Box 19"/>
          <p:cNvSpPr/>
          <p:nvPr/>
        </p:nvSpPr>
        <p:spPr>
          <a:xfrm>
            <a:off x="654516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4" name="Line 20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6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7" name="Line 5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8" name="Line 6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9" name="Line 7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0" name="Line 8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1" name="Line 9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2" name="Line 10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3" name="Line 11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4" name="Line 12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5" name="Line 13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6" name="Line 14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7" name="Line 15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8" name="Line 16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9" name="Line 17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654516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1" name="Line 19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3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4" name="Line 6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5" name="Line 7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6" name="Line 8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7" name="Line 9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8" name="Line 10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9" name="Line 11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0" name="Line 12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1" name="Line 13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2" name="Line 14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3" name="Line 15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4" name="Line 16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5" name="Line 17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6" name="Line 18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56964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2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8" name="Line 20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0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1" name="Line 5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2" name="Line 6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3" name="Line 8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4" name="Line 9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6" name="Line 11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7" name="Line 12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8" name="Line 13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9" name="Line 14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0" name="Line 15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1" name="Line 16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2" name="Line 17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3" name="Text Box 18"/>
          <p:cNvSpPr/>
          <p:nvPr/>
        </p:nvSpPr>
        <p:spPr>
          <a:xfrm>
            <a:off x="656964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2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4" name="Line 19"/>
          <p:cNvSpPr/>
          <p:nvPr/>
        </p:nvSpPr>
        <p:spPr>
          <a:xfrm>
            <a:off x="403848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6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7" name="Line 4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9" name="Line 6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0" name="Line 7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2" name="Line 9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3" name="Line 10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5" name="Line 12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6" name="Line 13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7" name="Line 14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8" name="Line 15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6554160" y="243828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ne in 2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s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0" name="Line 17"/>
          <p:cNvSpPr/>
          <p:nvPr/>
        </p:nvSpPr>
        <p:spPr>
          <a:xfrm>
            <a:off x="403848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"/>
          <p:cNvSpPr/>
          <p:nvPr/>
        </p:nvSpPr>
        <p:spPr>
          <a:xfrm>
            <a:off x="2666880" y="4191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one in 2 total moves!!!  Now you try number 2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"/>
          <p:cNvSpPr/>
          <p:nvPr/>
        </p:nvSpPr>
        <p:spPr>
          <a:xfrm>
            <a:off x="266688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36576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Line 10"/>
          <p:cNvSpPr/>
          <p:nvPr/>
        </p:nvSpPr>
        <p:spPr>
          <a:xfrm flipV="1">
            <a:off x="365760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441972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41972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Line 13"/>
          <p:cNvSpPr/>
          <p:nvPr/>
        </p:nvSpPr>
        <p:spPr>
          <a:xfrm flipV="1">
            <a:off x="4419720" y="1752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441972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518148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 flipV="1">
            <a:off x="518148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1676520" y="4572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746280" y="1336680"/>
            <a:ext cx="1463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4b11"/>
                </a:solidFill>
                <a:latin typeface="Comic Sans MS"/>
              </a:rPr>
              <a:t>How many moves to make the fish swim the opposite way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 flipV="1">
            <a:off x="4495680" y="1752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Line 13"/>
          <p:cNvSpPr/>
          <p:nvPr/>
        </p:nvSpPr>
        <p:spPr>
          <a:xfrm flipV="1">
            <a:off x="4495680" y="17521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7:07:42Z</dcterms:created>
  <dc:creator>DIST225</dc:creator>
  <dc:description/>
  <dc:language>en-US</dc:language>
  <cp:lastModifiedBy>RomaK</cp:lastModifiedBy>
  <dcterms:modified xsi:type="dcterms:W3CDTF">2015-09-04T09:22:38Z</dcterms:modified>
  <cp:revision>8</cp:revision>
  <dc:subject/>
  <dc:title>Problem Number One: Example </dc:title>
</cp:coreProperties>
</file>